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5.png" ContentType="image/png"/>
  <Override PartName="/ppt/media/image28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8DE9-9871-4FBE-BBAE-DBBA88DF4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F63A-E91E-406F-AFF9-83954CB92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726080"/>
            <a:ext cx="54864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Video: Stylistic concerns, shooting 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amer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udio: tips in terms of best audi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Lighting: what is 3 point, standard, altern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Justins docum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8428-CF81-467F-BE3A-A51F2753D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726080"/>
            <a:ext cx="54864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Video: Stylistic concerns, shooting sche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amer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Audio: tips in terms of best audi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Lighting: what is 3 point, standard, alterna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Justins docum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94E9-17B5-49B1-89EE-BBC0D0B5A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6E63-F9ED-4D5B-BBBF-8C8EFFB52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AD46-1FC8-444C-9A0D-C779DC232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D16B-863C-4E52-964A-5CBA541C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430C-0A54-4D62-A7C8-A01E8A27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F79B-BDAD-4628-B079-2192C047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7B9B-7DE1-4D9E-8AC7-B3F95A7C1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A230-0830-4699-B1C8-3FEE4046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959E-6328-4054-988B-F65EE2D5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0722-3FE3-43D3-9E37-AEBB7110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C2D1-DDB9-47DD-A425-A25A2517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C70D-DAC9-4D3E-89E2-9C065ED2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6186-8E23-4DE2-A884-3271A40E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FE39-2EF6-43B2-9199-27E46DA2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4F2D-9A5B-450D-8CAD-CC572B84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5983-EA10-4715-A29B-3957F8D6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E38A-124F-4FD8-A8CD-0B63C1F1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BBEE-8E09-4258-A767-B36CC431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070F-F265-461A-8DB9-725BD3A4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3E59-8CC3-49ED-AB5A-1BC64A0D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1CA47-D46D-422F-AD8C-9E42BAC50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EA82D-3B56-442F-A6D1-72526F74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BD12D-68A8-4EC4-AC1E-1408B17A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A7687-C0F0-467A-A6E8-2CFC8070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600CB-A480-4485-BC04-CF453821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64B4-650F-45A1-BC2A-EF2559FA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167A5-FF44-4491-925D-9099ACB3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5C45A-0A83-41F2-A09D-959F560B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149AC-BE25-4834-85B1-98381274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D33F8-66F9-468E-A79E-2A35138D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FE183-6151-4876-B53A-FD032A2B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5976E-18FC-411F-90EC-92A56DDE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73197-EA74-49FA-A925-99264FD8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B5D2F-149C-419F-80F3-972F469E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947B1-B9DA-4339-BF8F-CAD349CF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D7BDD-A90E-4CB8-8364-4D7CD4D6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A20D-DFBD-4C46-830E-F5709F81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43786-ADC7-4927-9468-6D9024A6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32BAB-D86E-4735-BF8E-336AC7AA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506AD-CDEF-4EC2-A00C-F67A04CF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37727-4070-4B30-BC29-BB5F67C0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96714-E6FF-433B-849A-70496A0A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90A50-6FD9-4F31-8442-934396E9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FF80B-82BC-4D92-AD8B-DEA14F75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3DD67-CB18-4D03-8DDA-E7DEF533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0C2A9-0C28-4B9F-89B9-ABC16ADC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9055D-EEF9-406B-AA3A-4604E709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E263-6B9C-450C-8CF1-885A50A2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17025-4456-453F-9402-98651C5F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47CB3-18C3-42CB-8CD6-059889F8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0F978-7535-4592-8EAD-8F8D58C2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03A6E-58FE-473A-8172-1F790A80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FA580-9F21-4F36-8A72-6D482398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1A186-2228-4BC2-A3D8-02FF2BCD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9E8B1-5FA9-4226-8979-F17EB14C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AB9CB-C2A1-4504-9393-4E0894A2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47DC0-6C06-40FD-AC75-42935F45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30BD1-D312-4F21-9A98-2361D872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5825-D989-4D9F-975B-9A40156D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68AD2-0254-4738-A8A0-CDA4AECFC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EE58B-46A0-4C65-BA43-467DD1FE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F6FF6-C6C8-481D-8383-D4439009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11038-B41A-4D77-9E1A-04DC2BBE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89833-653C-4C94-8265-17F382E0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4D87B-6B12-4F68-BDE7-76EF3283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ECA15-5487-4894-AA29-0D0F1C1C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6F562-0674-432E-85E5-C0B87864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A34C1-9463-4CCA-8825-56A04EC4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F55E5-57F4-414E-BCAD-0BE362D2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8990-041A-438B-AE89-BBF43611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BECAC-839A-401B-A7E5-82B526E0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91C49-F8FD-43C2-82CC-BFE5BBAC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D1098-2757-42E0-97A3-FDC31496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7E8C4-028F-40BB-8B32-D2177413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771C6-2A0E-4E53-BE39-3AD45C8A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998B5-3F25-4C46-BF62-E6785B93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9C26D-5270-4375-ADFA-E2507CA1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E9F0D-52AB-4A94-B391-BE6F7EC4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3413A-21BB-43BF-80E5-C6AFBEA8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DEDE2A-08A4-4D04-B616-3F840673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E0EA-2A46-47F3-89AC-9F1152E6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1FAF5-5A3E-440B-A862-EA876556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A9246-6D7E-4EA6-A8EB-49E0D220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EDA68-8A6B-4F8B-B6CD-C2E45BC0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DD011-7592-4234-8643-14AE0B72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A9910-0968-4079-9D8A-CDB33909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BB4D6-EF09-4D5B-99DA-8114A7CD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C464A-6FFF-471E-9251-FB0A7891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D5FCC-7A2A-40B6-BE44-66BCFA53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8891B-3D7E-4C72-98DA-3A705FB0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EA9FF-5B23-4D5C-A676-0B462BFF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F41C-C642-45F4-AD4A-7FDE5796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B883A-D637-4858-A47A-45E02DD7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C26B5-0199-446B-8BB4-F9F82CFE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DB608-A378-4895-A948-D4086482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00EF7-2272-4E5A-A772-E74EF640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1A0E1-9352-4A68-9188-E0A5144F3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FCFB2-6265-4880-BCE5-CBFDBFCC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50C06-F825-46B5-8DC7-4D50287B4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F639-634E-47C5-9FF1-3E1B63788A0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CFF9-E1DC-42A2-A38F-69A400FF3946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BC90-5355-4DEB-AF01-9AE88DD3C9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F35E-3BD6-46B4-ACB7-4131CBA79DF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11CF-B79E-442F-B9E8-C5F3AC5AAA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3524-4DFB-449E-9376-2DF0A5C9881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E9BC-C873-4FDE-BF45-96EB2B1BF76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FF87-2726-4F84-9163-CE680A3B762D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DDB5-1D46-4A02-A039-EE2254B2EB3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A56F-9AF7-4975-8E02-B82EEC69EB8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filmsite.org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5" descr="z1.jpg"/>
          <p:cNvPicPr/>
          <p:nvPr/>
        </p:nvPicPr>
        <p:blipFill>
          <a:blip r:embed="rId2"/>
          <a:stretch/>
        </p:blipFill>
        <p:spPr>
          <a:xfrm>
            <a:off x="304920" y="5105520"/>
            <a:ext cx="2336760" cy="1828800"/>
          </a:xfrm>
          <a:prstGeom prst="rect">
            <a:avLst/>
          </a:prstGeom>
          <a:ln w="0">
            <a:noFill/>
          </a:ln>
        </p:spPr>
      </p:pic>
      <p:pic>
        <p:nvPicPr>
          <p:cNvPr id="354" name="Rectangle 2" descr=""/>
          <p:cNvPicPr/>
          <p:nvPr/>
        </p:nvPicPr>
        <p:blipFill>
          <a:blip r:embed="rId3"/>
          <a:stretch/>
        </p:blipFill>
        <p:spPr>
          <a:xfrm>
            <a:off x="835200" y="907920"/>
            <a:ext cx="777852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The way we set up a shot can affect the meaning.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rbel"/>
              </a:rPr>
              <a:t>We can create different “feels” to our shots by looking at composition.  The basic way to do this is to look at your screen as a 3X3 gri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spec03_2"/>
          <p:cNvPicPr/>
          <p:nvPr/>
        </p:nvPicPr>
        <p:blipFill>
          <a:blip r:embed="rId2"/>
          <a:stretch/>
        </p:blipFill>
        <p:spPr>
          <a:xfrm>
            <a:off x="1722600" y="1916280"/>
            <a:ext cx="5297400" cy="39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spec03_2"/>
          <p:cNvPicPr/>
          <p:nvPr/>
        </p:nvPicPr>
        <p:blipFill>
          <a:blip r:embed="rId2"/>
          <a:stretch/>
        </p:blipFill>
        <p:spPr>
          <a:xfrm>
            <a:off x="1763640" y="1916280"/>
            <a:ext cx="5297400" cy="3974760"/>
          </a:xfrm>
          <a:prstGeom prst="rect">
            <a:avLst/>
          </a:prstGeom>
          <a:ln w="0">
            <a:noFill/>
          </a:ln>
        </p:spPr>
      </p:pic>
      <p:sp>
        <p:nvSpPr>
          <p:cNvPr id="384" name="Line 4"/>
          <p:cNvSpPr/>
          <p:nvPr/>
        </p:nvSpPr>
        <p:spPr>
          <a:xfrm>
            <a:off x="1763640" y="3284640"/>
            <a:ext cx="532944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5"/>
          <p:cNvSpPr/>
          <p:nvPr/>
        </p:nvSpPr>
        <p:spPr>
          <a:xfrm>
            <a:off x="1763640" y="4653000"/>
            <a:ext cx="532944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6"/>
          <p:cNvSpPr/>
          <p:nvPr/>
        </p:nvSpPr>
        <p:spPr>
          <a:xfrm>
            <a:off x="3564000" y="1916280"/>
            <a:ext cx="0" cy="396072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7"/>
          <p:cNvSpPr/>
          <p:nvPr/>
        </p:nvSpPr>
        <p:spPr>
          <a:xfrm>
            <a:off x="5364000" y="1916280"/>
            <a:ext cx="0" cy="396072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spec03_3"/>
          <p:cNvPicPr/>
          <p:nvPr/>
        </p:nvPicPr>
        <p:blipFill>
          <a:blip r:embed="rId2"/>
          <a:stretch/>
        </p:blipFill>
        <p:spPr>
          <a:xfrm>
            <a:off x="1692360" y="1989000"/>
            <a:ext cx="52974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spec03_3"/>
          <p:cNvPicPr/>
          <p:nvPr/>
        </p:nvPicPr>
        <p:blipFill>
          <a:blip r:embed="rId2"/>
          <a:stretch/>
        </p:blipFill>
        <p:spPr>
          <a:xfrm>
            <a:off x="1692360" y="1989000"/>
            <a:ext cx="5297400" cy="3975120"/>
          </a:xfrm>
          <a:prstGeom prst="rect">
            <a:avLst/>
          </a:prstGeom>
          <a:ln w="0">
            <a:noFill/>
          </a:ln>
        </p:spPr>
      </p:pic>
      <p:sp>
        <p:nvSpPr>
          <p:cNvPr id="392" name="Line 4"/>
          <p:cNvSpPr/>
          <p:nvPr/>
        </p:nvSpPr>
        <p:spPr>
          <a:xfrm>
            <a:off x="1692360" y="3284640"/>
            <a:ext cx="5329080" cy="0"/>
          </a:xfrm>
          <a:prstGeom prst="line">
            <a:avLst/>
          </a:prstGeom>
          <a:ln w="7632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5"/>
          <p:cNvSpPr/>
          <p:nvPr/>
        </p:nvSpPr>
        <p:spPr>
          <a:xfrm>
            <a:off x="1692360" y="4653000"/>
            <a:ext cx="5329080" cy="0"/>
          </a:xfrm>
          <a:prstGeom prst="line">
            <a:avLst/>
          </a:prstGeom>
          <a:ln w="7632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6"/>
          <p:cNvSpPr/>
          <p:nvPr/>
        </p:nvSpPr>
        <p:spPr>
          <a:xfrm>
            <a:off x="3492360" y="1916280"/>
            <a:ext cx="0" cy="3960720"/>
          </a:xfrm>
          <a:prstGeom prst="line">
            <a:avLst/>
          </a:prstGeom>
          <a:ln w="7632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7"/>
          <p:cNvSpPr/>
          <p:nvPr/>
        </p:nvSpPr>
        <p:spPr>
          <a:xfrm>
            <a:off x="5292720" y="1916280"/>
            <a:ext cx="0" cy="3960720"/>
          </a:xfrm>
          <a:prstGeom prst="line">
            <a:avLst/>
          </a:prstGeom>
          <a:ln w="76320">
            <a:solidFill>
              <a:srgbClr val="5a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e 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dea, Story, Script, Storyboard, Pl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d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ocation shoot, Atmos/ Nat sound, Music and Composi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ost Produ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LE, Graphics, Sound Desig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9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3f3f3f"/>
                </a:solidFill>
                <a:latin typeface="Arial"/>
                <a:ea typeface="Arial"/>
              </a:rPr>
              <a:t>Drift Media © 2008 www.driftmedia.com.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5" descr="scan0002"/>
          <p:cNvPicPr/>
          <p:nvPr/>
        </p:nvPicPr>
        <p:blipFill>
          <a:blip r:embed="rId2">
            <a:lum contrast="12000"/>
          </a:blip>
          <a:srcRect l="6550" t="7515" r="9980" b="0"/>
          <a:stretch/>
        </p:blipFill>
        <p:spPr>
          <a:xfrm>
            <a:off x="1619280" y="1916280"/>
            <a:ext cx="5538600" cy="41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sing what you’ve learnt, shoot the storyboard provided.  Don’t forget production dialogue and slat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You have 1 hour (roughly 10 minutes per shot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UNCH BREA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worked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didn’t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asiest part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ardest part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ne thing you’d do differently next tim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68360" y="1762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590400" indent="-590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ntinuous roll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posu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cu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udio not given respec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dit too subjectiv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rom Town Of Choice to School Of Choice…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ere we are coming f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ere we want to get to, and how we’ll get the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68360" y="1762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590400" indent="-590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 time between hitting record and starting the a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ns too long in dur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ns too wide in ar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mera Zoo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mera shak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8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ard lights- intense “spot” lights which casts shadow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ft Lights- light is reflected, throws little shadow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590400" indent="-590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AU" sz="2700" spc="-1" strike="noStrike">
                <a:solidFill>
                  <a:srgbClr val="000000"/>
                </a:solidFill>
                <a:latin typeface="Corbel"/>
              </a:rPr>
              <a:t>Each different type of light we use within a scene is called a “point” of light. Generally, you will need to work with three “points”.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Key light- dominant light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(brightest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Fill light- brings out detail in the shadows cast by Key light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590400" indent="-59040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Back light- seperates subject from background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(dullest)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ook at existing light sources- eg lamps, tv screens, computer monitor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light bounce can be made with the sun (or a 200w lightbulb) and a large sheet of White cardboard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dentify ambient noi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how many noises in this room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ypes of mic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Shotgun- direction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e use of a directional mic, (a shot gun, or electret) will cut down the surrounding noise. You still need to record in a quiet environment however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Lapel- unidirection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(most cameras are uni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Captures audio from the front and to the side of the camera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533520" y="241416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No external mic- do not zoom !!!!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Work in close to your subjec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nd locations with little or no ambient noise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itch within your group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ach person shares their writing task within their group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roup decides on one story they think will best suit this projec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ach group has 5 minutes to pitch their chosen idea to the whole group, and field question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ss the buc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your production groups you have 5 min to collate as many roles as you can think of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5 minute showdown and then 5 minute clarific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class of art having a characteristic form or techniqu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many film genres can you name 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Reference:  </a:t>
            </a:r>
            <a:r>
              <a:rPr b="0" lang="en-US" sz="3000" spc="-1" strike="noStrike" u="sng">
                <a:solidFill>
                  <a:srgbClr val="168bba"/>
                </a:solidFill>
                <a:uFillTx/>
                <a:latin typeface="Arial"/>
                <a:hlinkClick r:id="rId2"/>
              </a:rPr>
              <a:t>http://www.filmsite.org/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3f3f3f"/>
                </a:solidFill>
                <a:latin typeface="Arial"/>
                <a:ea typeface="Arial"/>
              </a:rPr>
              <a:t>Drift Media © 2008 www.driftmedia.com.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6840" y="1774800"/>
            <a:ext cx="6248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0000"/>
          </a:bodyPr>
          <a:p>
            <a:pPr marL="350280" indent="-2548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rbel"/>
              </a:rPr>
              <a:t>Draw your camera and tripod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rbel"/>
              </a:rPr>
              <a:t>.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Corbel"/>
              </a:rPr>
              <a:t>Identify the following functions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54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rbel"/>
              </a:rPr>
              <a:t>Lens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orbel"/>
              </a:rPr>
              <a:t>Zoom control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orbel"/>
              </a:rPr>
              <a:t>Internal Microphone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orbel"/>
              </a:rPr>
              <a:t>Play/ Record switch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orbel"/>
              </a:rPr>
              <a:t>Digital Input/ Output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54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rbel"/>
              </a:rPr>
              <a:t>Viewfinder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orbel"/>
              </a:rPr>
              <a:t>External Microphone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orbel"/>
              </a:rPr>
              <a:t>On/Off switch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orbel"/>
              </a:rPr>
              <a:t>Tape Eject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orbel"/>
              </a:rPr>
              <a:t>Playback controls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orbel"/>
              </a:rPr>
              <a:t>240v power input</a:t>
            </a:r>
            <a:br>
              <a:rPr sz="2000"/>
            </a:br>
            <a:r>
              <a:rPr b="1" lang="en-AU" sz="2000" spc="-1" strike="noStrike">
                <a:solidFill>
                  <a:srgbClr val="000000"/>
                </a:solidFill>
                <a:latin typeface="Corbel"/>
              </a:rPr>
              <a:t>Battery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54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TextBox 4"/>
          <p:cNvSpPr/>
          <p:nvPr/>
        </p:nvSpPr>
        <p:spPr>
          <a:xfrm>
            <a:off x="7315200" y="6095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X 15 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meras are dumb!- (Iri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udio- the invisible kill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(get in close…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Title 1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hot Types and Framing (handou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duction Positioning (stanc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duction dialogue (slat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530280" y="73080"/>
            <a:ext cx="8163000" cy="1152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vrmsyufu[1]"/>
          <p:cNvPicPr/>
          <p:nvPr/>
        </p:nvPicPr>
        <p:blipFill>
          <a:blip r:embed="rId2"/>
          <a:stretch/>
        </p:blipFill>
        <p:spPr>
          <a:xfrm>
            <a:off x="4822920" y="2571840"/>
            <a:ext cx="3352680" cy="2173320"/>
          </a:xfrm>
          <a:prstGeom prst="rect">
            <a:avLst/>
          </a:prstGeom>
          <a:ln w="0">
            <a:noFill/>
          </a:ln>
        </p:spPr>
      </p:pic>
      <p:sp>
        <p:nvSpPr>
          <p:cNvPr id="371" name="Footer Placeholder 5"/>
          <p:cNvSpPr/>
          <p:nvPr/>
        </p:nvSpPr>
        <p:spPr>
          <a:xfrm>
            <a:off x="57150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3f3f3f"/>
                </a:solidFill>
                <a:latin typeface="Arial"/>
              </a:rPr>
              <a:t>Drift Media © 200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3f3f3f"/>
                </a:solidFill>
                <a:latin typeface="Arial"/>
              </a:rPr>
              <a:t>www.driftmedia.com.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6" descr="PH02100J"/>
          <p:cNvPicPr/>
          <p:nvPr/>
        </p:nvPicPr>
        <p:blipFill>
          <a:blip r:embed="rId3"/>
          <a:stretch/>
        </p:blipFill>
        <p:spPr>
          <a:xfrm>
            <a:off x="826920" y="2708280"/>
            <a:ext cx="3386160" cy="223344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7"/>
          <p:cNvSpPr/>
          <p:nvPr/>
        </p:nvSpPr>
        <p:spPr>
          <a:xfrm>
            <a:off x="1803960" y="5013360"/>
            <a:ext cx="16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5836320" y="4997520"/>
            <a:ext cx="16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Rectangle 1026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457200" y="29145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e 1 + Image 2= Meaning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0000"/>
                </a:solidFill>
                <a:latin typeface="Arial"/>
              </a:rPr>
              <a:t>Eisenstein 1938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3f3f3f"/>
                </a:solidFill>
                <a:latin typeface="Arial"/>
                <a:ea typeface="Arial"/>
              </a:rPr>
              <a:t>Drift Media © 2008 www.driftmedia.com.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0:39:09Z</dcterms:created>
  <dc:creator>Michael Green</dc:creator>
  <dc:description/>
  <dc:language>en-US</dc:language>
  <cp:lastModifiedBy>Michael Green</cp:lastModifiedBy>
  <dcterms:modified xsi:type="dcterms:W3CDTF">2009-05-14T11:56:41Z</dcterms:modified>
  <cp:revision>10</cp:revision>
  <dc:subject/>
  <dc:title>A Point in Time</dc:title>
</cp:coreProperties>
</file>